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5C4-9D24-4418-8B48-D5E1B03A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EA0-5952-488F-B3D0-F93A08D3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40F-663C-441C-A8FA-49A15BF0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847-0C83-4360-86F4-E6AC45D9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550-383A-4E54-86BA-3DE6C7F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903-5BFF-49A0-97BA-6BAE64E3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CD7-4B07-4E8B-9223-58235AA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DFE-022F-4C4A-93C7-2EE42A1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C2E-AC81-497E-9B22-1F996A2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78-4A74-4AAC-AC83-12A1CC5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1EF-DA3D-44E1-BADA-7887480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337-6F24-4E19-AADF-12F08B1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ECFA-572E-45C4-B42C-779595A7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Knowledge Management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rganiz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organization chooses to respond to future events, based upon its past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52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cous and hard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v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09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why do we do things certain ways?  Who establishes Standard Operating Procedures (SOPs)?  How do we know these are correc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items of corporate lore passed on from one generation to another.  When we forget why things are done certain ways, we have just added to the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378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corporate and organizational cultures change slowly.  Change is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imes have you been re-organized in your career?  How many of these re-orgs implemented permanent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s inevitable, except from the vending mach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106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rganization has such a large repository of knowledge and memory that some things in this collection have ceased to b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what you don’t know that will hurt you, but what you know that isn’t s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od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761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vasive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knowledge and beliefs, correct or otherwise, are everywhere within the organization.  Changing or correcting them is a long and difficult process.  Entropy is a powerful force for opposing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42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organization has been praised by Congress for its ability to “turn on a dime” to respond to new missions and tas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adical change in direction or leadership wipes the slate clean and tries to star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reinforced and supported at all levels, change reverts (remember TQ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588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d save a Word document on your network drive that describes each of the four attributes of corporate culture from your own experi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t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148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3:31:05Z</dcterms:created>
  <dc:creator>Anne Brooker-Grogan</dc:creator>
  <dc:description/>
  <dc:language>en-US</dc:language>
  <cp:lastModifiedBy>Anne Brooker-Grogan</cp:lastModifiedBy>
  <dcterms:modified xsi:type="dcterms:W3CDTF">2010-02-15T07:58:09Z</dcterms:modified>
  <cp:revision>7</cp:revision>
  <dc:subject/>
  <dc:title>Slide 1</dc:title>
</cp:coreProperties>
</file>